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ACF-A722-4A9E-B544-A280A647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C7F-8784-435D-BA46-317096D2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5DA-CB1C-4C53-83F6-DDC327DE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733-3B40-4E9B-B76F-D3748A71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C109-6181-43EE-B0DC-92DA74AE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CC1A-5A35-4021-A465-D8AA46B4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DE0C-A875-4CA5-B176-D859A36E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D35B-D7FF-422D-93A4-2DA29D03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3255-4211-4ED7-9065-F3D8BEBB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C945-E571-4A99-9118-20BCD3A0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D712-D8D7-435D-A06F-6B37D73D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F6B-B3D1-4B6A-AB53-03A9CB3A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8EE4-FB8E-4013-8AFE-6CB55289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03AC-0D5C-47D1-886A-E586DB3A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F193-2897-4538-8CF0-CA50D95C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BABB-EA5F-4942-A604-42CB8E26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3FF6-159A-427D-A9AE-DCA03BC6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542-DD4A-48D6-80A3-37B36D83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2DF6-5E97-4937-88D6-036BD71A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B6E-F97C-4DEB-8100-6792E400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966-EE06-48E6-81D4-55F0366B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19B1-E9B6-4D5D-BDE1-F34BA52E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87D-EEF4-4D46-9CAE-D99495A4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4EC-731A-4937-A4E2-48455E7A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A738-EB25-4119-9E30-6C2A0F8D7FA8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B641-279B-446F-92C3-EAA84683F7A5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MS Access RDB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 Narrow"/>
              </a:rPr>
              <a:t>Database Management System (DBMS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A set of programs that permits an organisation t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centralise dat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create database fi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manage them efficientl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access the data when requir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Using a DBMS, users c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create new database fi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add, delete, alter, and sort dat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make enquiries and print report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he DBMS wi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allow many users to simultaneously access the central datab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restrict access for each user to those parts of the database that they are entitled to view or chang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MS Access has many of the features of a DBM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 Narrow"/>
              </a:rPr>
              <a:t>Basic Compon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 Narrow"/>
              </a:rPr>
              <a:t>Tab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 Narrow"/>
              </a:rPr>
              <a:t>For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 Narrow"/>
              </a:rPr>
              <a:t>Quer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 Narrow"/>
              </a:rPr>
              <a:t>Repor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 Narrow"/>
              </a:rPr>
              <a:t>Tab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 Narrow"/>
              </a:rPr>
              <a:t>A table for each separate ent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eaeaea"/>
                </a:solidFill>
                <a:latin typeface="Arial Narrow"/>
              </a:rPr>
              <a:t>Design </a:t>
            </a:r>
            <a:r>
              <a:rPr b="1" lang="en-GB" sz="3200" spc="-1" strike="noStrike">
                <a:solidFill>
                  <a:srgbClr val="eaeaea"/>
                </a:solidFill>
                <a:latin typeface="Arial Narrow"/>
              </a:rPr>
              <a:t>mode allows user to define a data structure for the ta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A primary key – which must be a unique identifier for each record - must be defined. (Access does provide an </a:t>
            </a:r>
            <a:r>
              <a:rPr b="1" i="1" lang="en-GB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Autonumber</a:t>
            </a:r>
            <a:r>
              <a:rPr b="1" lang="en-GB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 function is there is no natural unique identifie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Fo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A user-friendly method of entering data for the main user(s) of a datab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Usually has one </a:t>
            </a:r>
            <a:r>
              <a:rPr b="1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data source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, which may be a table or a qu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he objects that allow fields to displayed and/or modified are known as </a:t>
            </a:r>
            <a:r>
              <a:rPr b="1" i="1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contro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Design is very importa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Order of contr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Layout of contr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Que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Used to create subsets of data held in tab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Used to combine the contents of more than one t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his is achieved via the relational links that are created between tab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he are several types of que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Simple select que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Update que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Append que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Delete que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Crosstab que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Repo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Reports are usually used in conjunction with queries to produce sorted output satisfying particular criter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MS Access provides powerful </a:t>
            </a:r>
            <a:r>
              <a:rPr b="1" i="1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wizards</a:t>
            </a:r>
            <a:r>
              <a:rPr b="1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 to produce reports with various sort, grouping and style opt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Relationsh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he </a:t>
            </a:r>
            <a:r>
              <a:rPr b="1" i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relational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 database model depends upon the creation of relational links between separate entities (tabl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One-to-Many relationshi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For example in a surgery database, a doctor would have many patie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438280" y="3886200"/>
            <a:ext cx="4467240" cy="623880"/>
            <a:chOff x="2438280" y="3886200"/>
            <a:chExt cx="4467240" cy="623880"/>
          </a:xfrm>
        </p:grpSpPr>
        <p:sp>
          <p:nvSpPr>
            <p:cNvPr id="106" name=""/>
            <p:cNvSpPr/>
            <p:nvPr/>
          </p:nvSpPr>
          <p:spPr>
            <a:xfrm>
              <a:off x="2438280" y="3906720"/>
              <a:ext cx="1327320" cy="5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tor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29080" y="3886200"/>
              <a:ext cx="157644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tient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762360" y="3928680"/>
              <a:ext cx="1590480" cy="506520"/>
              <a:chOff x="3762360" y="3928680"/>
              <a:chExt cx="1590480" cy="506520"/>
            </a:xfrm>
          </p:grpSpPr>
          <p:sp>
            <p:nvSpPr>
              <p:cNvPr id="109" name=""/>
              <p:cNvSpPr/>
              <p:nvPr/>
            </p:nvSpPr>
            <p:spPr>
              <a:xfrm>
                <a:off x="3762360" y="4172040"/>
                <a:ext cx="1577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5102640" y="3928680"/>
                <a:ext cx="236520" cy="2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116680" y="4192200"/>
                <a:ext cx="236160" cy="2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121932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One-to-one relationshi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a doctor would have one expense accou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514600" y="5943600"/>
            <a:ext cx="4481640" cy="623880"/>
            <a:chOff x="2514600" y="5943600"/>
            <a:chExt cx="4481640" cy="623880"/>
          </a:xfrm>
        </p:grpSpPr>
        <p:sp>
          <p:nvSpPr>
            <p:cNvPr id="114" name=""/>
            <p:cNvSpPr/>
            <p:nvPr/>
          </p:nvSpPr>
          <p:spPr>
            <a:xfrm>
              <a:off x="2514600" y="5964120"/>
              <a:ext cx="1327320" cy="5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tor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19800" y="5943600"/>
              <a:ext cx="157644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pense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38680" y="6229440"/>
              <a:ext cx="157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9:00:03Z</dcterms:created>
  <dc:creator>Graham R Pugh</dc:creator>
  <dc:description/>
  <dc:language>en-US</dc:language>
  <cp:lastModifiedBy>Graham R Pugh</cp:lastModifiedBy>
  <dcterms:modified xsi:type="dcterms:W3CDTF">2001-06-02T20:35:20Z</dcterms:modified>
  <cp:revision>41</cp:revision>
  <dc:subject/>
  <dc:title>Relational Databases</dc:title>
</cp:coreProperties>
</file>